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F40-0D45-444C-8491-F9D1044A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9E4-EE2B-494F-A6A1-01BECD37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ECC-548D-48FB-94D8-E2045635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470-03F6-45E1-A514-969B1AFE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915-4032-40D2-9F0F-A9CD113E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B80-6837-45C7-8CB1-7CA807BF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0B8-68B4-4595-8335-31BC49D7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9CD-6C35-4A1D-AF70-5DB8235A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29D-C34A-415F-A3ED-EEE60A8B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450-3268-41BB-8232-17DE686D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CB5-526F-4C54-AA9D-499044B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845-51BC-408E-B19B-C1FD283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75F0-4D14-4CE3-B1E4-F226F1DDA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1 Mňa odzbroj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odzbroj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vojím väzňo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iba vtedy, keď som t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svätý život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náruč tvoju m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svoje väz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nej lásku tvoju okúš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m vrúcne že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rdca môjho vstúp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láskou spútaj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oporou mi pevnou b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nikdy nekl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tvoje bremä ni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ať jarmo tvoje rád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tále žiť na tvoju č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 hájiť Majestá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eba poslúch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, drahý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ráč mi na to silu 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tále pri mne st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svojej vôli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 moju podriad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ty aj istú prehru vi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výhru obrát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20:46:41Z</dcterms:modified>
  <cp:revision>20</cp:revision>
  <dc:subject/>
  <dc:title>Je veľký náš Pán, on slávy je Kráľ Nech do všetkých strán  spev vrúcnych znie chvál.</dc:title>
</cp:coreProperties>
</file>